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679-C296-4A14-AE80-8F8C9C02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D3E-EB21-4FD5-A204-2368A4C2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6CC-4720-4A6D-A493-ED9C1D99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79-0414-4648-98EC-9E12CB72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8E7-D938-42A6-B9C4-3CC3DBFA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957-B96C-42D4-8C77-D8A7573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F0D-3FF2-4573-9076-E369D9FA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CE2-9230-4819-B0DD-D33F5A9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A0D-412C-401D-9F59-F88C1C8F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CBB-E7C9-45C3-B934-A64DA17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408-6DBC-4BC0-8608-D068407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C4C-79B8-4C09-81DE-88E73D0E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687-5B55-40B8-A363-FE63D00EE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at the world eats.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92280"/>
            <a:ext cx="82087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american photographer, Peter Menzel, travelled around the world in 2005 and took photos of what 30 different families in different countries typically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a normal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Food Nutrition Eating Health Diet &lt;span style='font-weight: bold'&gt;&lt;/span&gt;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answers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taly           £1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xico       £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ngolia    £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hina         £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Germany   £3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Ecuador     £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Kuwait       £1.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628640"/>
            <a:ext cx="404352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Bhutan      £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England     £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Egypt          £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USA           £2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ad          6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Japan         £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Poland        £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roduct Details"/>
          <p:cNvPicPr/>
          <p:nvPr/>
        </p:nvPicPr>
        <p:blipFill>
          <a:blip r:embed="rId1"/>
          <a:stretch/>
        </p:blipFill>
        <p:spPr>
          <a:xfrm>
            <a:off x="468360" y="333360"/>
            <a:ext cx="454824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03640" y="620640"/>
            <a:ext cx="439272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His photos are published in ‘The Hungry Planet’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Les pays dans les im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tats-Un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Mex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quat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ngleter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Polo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llema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Ita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ap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ongo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u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oweï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Égyp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ch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4360" y="404640"/>
          <a:ext cx="8135280" cy="6192720"/>
        </p:xfrm>
        <a:graphic>
          <a:graphicData uri="http://schemas.openxmlformats.org/drawingml/2006/table">
            <a:tbl>
              <a:tblPr/>
              <a:tblGrid>
                <a:gridCol w="2711880"/>
                <a:gridCol w="2711520"/>
                <a:gridCol w="2711880"/>
              </a:tblGrid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9:15:32Z</dcterms:created>
  <dc:creator>student</dc:creator>
  <dc:description/>
  <dc:language>en-US</dc:language>
  <cp:lastModifiedBy>student</cp:lastModifiedBy>
  <dcterms:modified xsi:type="dcterms:W3CDTF">2012-02-21T20:22:17Z</dcterms:modified>
  <cp:revision>30</cp:revision>
  <dc:subject/>
  <dc:title>What the world eats. </dc:title>
</cp:coreProperties>
</file>